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8C7-3E36-49F5-83CF-E585D6FA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493-024B-40AC-A427-9C38116B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12D-DFDA-4FE5-ADDC-16FCFA61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869-0EC5-4BF1-8D3D-53BA5224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A077-2DFD-437D-A866-11517C4E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45C2-F90F-46C0-8F56-9CB3F4F4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4B17-AB6C-4DC6-A82F-D3B0AFC5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A0E0-BA7A-4AA0-92A8-45894B75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19BD-8794-40AD-8905-542A5DE6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8227-C367-491E-B737-69EBD7B2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90E9-19A2-4D5B-8B2E-CC80060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791-B7B7-41C6-B528-76ED119B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FE6B-09DC-413A-B3C8-63D9F47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F872-5D6E-4667-A534-C75F5162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B338-139B-4BCA-8FF0-FFF918E7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CC9F-60CF-4DE6-9BDE-0A4E24DF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B97D-1BC2-463B-B429-9553BA4D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975-5EAA-4FF6-8A50-6D7D0B02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D59-CB71-4B7B-A62B-0286FDF9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6C6-F655-45C7-AD3F-0C6F78F8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93C-3F1E-456E-A1BC-6E8B29DD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63B-3BA5-4819-853D-DF3B8153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9E7-250E-4F2F-9F32-36D213B5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649-F367-43EF-8886-59C0562C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26F0-D936-4BF3-9123-C0B65DB19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42DE-BBC3-4193-9D14-1E9A949B62E1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ter and Wastewater in Ontario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hris Lyon, P.Eng., M.Eng.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irector Engineering Service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inley Group, Engineering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09480" y="3049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emical Pollutants –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ich are the Riskies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83808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illed Gasol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rbicid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sticid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iso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troge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eenhouse Gas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72428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Decomposes w O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Risky but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Risky but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Risky but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Risky.. Dilution on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1312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Greenhouse Gases?… </a:t>
            </a:r>
            <a:r>
              <a:rPr b="0" lang="en-US" sz="1600" spc="-1" strike="noStrike">
                <a:solidFill>
                  <a:srgbClr val="33cc33"/>
                </a:solidFill>
                <a:latin typeface="Tahoma"/>
              </a:rPr>
              <a:t>that’s another stor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1322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-barrier Approac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it’s good enough for Canadian Roof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7" descr="http://rds.yahoo.com/_ylt=A0WTefYZ0_NMeloA9SqjzbkF/SIG=12kbdrf1n/EXP=1291134105/**http%3a/www.allco.co.nz/site/allconew/images/Casali/Dermabit1.jpg"/>
          <p:cNvPicPr/>
          <p:nvPr/>
        </p:nvPicPr>
        <p:blipFill>
          <a:blip r:embed="rId2"/>
          <a:srcRect l="0" t="12935" r="0" b="0"/>
          <a:stretch/>
        </p:blipFill>
        <p:spPr>
          <a:xfrm>
            <a:off x="179280" y="2205000"/>
            <a:ext cx="87202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inking Water Multi-Barri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ect and Test the water sour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st and Treat the Raw wa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ean and Disinfect the Wa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nitor / Alarm the Water 24/7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nitor / Alarm the Reservoirs 24/7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a redundant water piping sys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nitor water in the distribution sys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st all points every 24/7, daily &amp; week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stewater 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orking with nature to clean dirty water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eaning Waste Water... What’s the worst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op ‘n Pap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i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emic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ap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ectici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troleu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sen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ones/Stic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44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1440" y="234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44" name="Group 22"/>
          <p:cNvGrpSpPr/>
          <p:nvPr/>
        </p:nvGrpSpPr>
        <p:grpSpPr>
          <a:xfrm>
            <a:off x="2278080" y="890640"/>
            <a:ext cx="4589280" cy="4711320"/>
            <a:chOff x="2278080" y="890640"/>
            <a:chExt cx="4589280" cy="4711320"/>
          </a:xfrm>
        </p:grpSpPr>
        <p:sp>
          <p:nvSpPr>
            <p:cNvPr id="245" name="Rectangle 19"/>
            <p:cNvSpPr/>
            <p:nvPr/>
          </p:nvSpPr>
          <p:spPr>
            <a:xfrm>
              <a:off x="2278080" y="89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6" name="Rectangle 20"/>
            <p:cNvSpPr/>
            <p:nvPr/>
          </p:nvSpPr>
          <p:spPr>
            <a:xfrm>
              <a:off x="2278080" y="916920"/>
              <a:ext cx="4589280" cy="46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40458c"/>
                  </a:solidFill>
                  <a:latin typeface="Arial"/>
                  <a:ea typeface="Arial"/>
                </a:rPr>
                <a:t>  </a:t>
              </a:r>
              <a:r>
                <a:rPr b="0" lang="en-US" sz="3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 </a:t>
              </a:r>
              <a:r>
                <a:rPr b="0" lang="en-US" sz="1100" spc="-1" strike="noStrike">
                  <a:solidFill>
                    <a:srgbClr val="40458c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1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247" name="Picture 21" descr="sewage arrives"/>
          <p:cNvPicPr/>
          <p:nvPr/>
        </p:nvPicPr>
        <p:blipFill>
          <a:blip r:embed="rId9"/>
          <a:stretch/>
        </p:blipFill>
        <p:spPr>
          <a:xfrm>
            <a:off x="5410080" y="990720"/>
            <a:ext cx="34290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stewater Before and Af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9" name="Picture 5" descr="compare-sewage-in-out.jpg (32736 bytes)"/>
          <p:cNvPicPr/>
          <p:nvPr/>
        </p:nvPicPr>
        <p:blipFill>
          <a:blip r:embed="rId1"/>
          <a:stretch/>
        </p:blipFill>
        <p:spPr>
          <a:xfrm>
            <a:off x="2209680" y="1752480"/>
            <a:ext cx="5015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ompare-sewage-in-out.jpg (32736 bytes)"/>
          <p:cNvPicPr/>
          <p:nvPr/>
        </p:nvPicPr>
        <p:blipFill>
          <a:blip r:embed="rId1"/>
          <a:stretch/>
        </p:blipFill>
        <p:spPr>
          <a:xfrm>
            <a:off x="1066680" y="0"/>
            <a:ext cx="766620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eaning Wastewa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reening – tires, 2x4’s, nyl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rit Removal – more stones and sa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arating Solids from Liqui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tle Solids and send solids to ‘digest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 bacteria to the remaining liquid and create a warm feeding and reproductive fren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tle out the fat bacteria families and send them to ‘digest’ (and create metha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eat and filter remaining bacter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urn clarified waste water to na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3" name="Picture 5" descr="Go to fullsize image"/>
          <p:cNvPicPr/>
          <p:nvPr/>
        </p:nvPicPr>
        <p:blipFill>
          <a:blip r:embed="rId5"/>
          <a:stretch/>
        </p:blipFill>
        <p:spPr>
          <a:xfrm>
            <a:off x="6477120" y="19051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opics in the New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happened in Walkerton, Ontari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5" descr="http://rds.yahoo.com/_ylt=A0WTefOF1fNMPmIAWTOjzbkF/SIG=11v02ur2g/EXP=1291134725/**http%3a/www.walkerton.org/wpd/images/map.jpg"/>
          <p:cNvPicPr/>
          <p:nvPr/>
        </p:nvPicPr>
        <p:blipFill>
          <a:blip r:embed="rId2"/>
          <a:stretch/>
        </p:blipFill>
        <p:spPr>
          <a:xfrm>
            <a:off x="2340000" y="2421000"/>
            <a:ext cx="38638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http://rds.yahoo.com/_ylt=A0WTefjn1fNM9mkAIJujzbkF/SIG=12n5nkosd/EXP=1291134823/**http%3a/www.ene.gov.on.ca/envision/techdocs/pdf_images/4000e01_5.gif"/>
          <p:cNvPicPr/>
          <p:nvPr/>
        </p:nvPicPr>
        <p:blipFill>
          <a:blip r:embed="rId1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nicipal Water Syst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atershed Protection in Ont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OCC PS Pro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Picture 5" descr="Photo: Water faucet and glass of ice."/>
          <p:cNvPicPr/>
          <p:nvPr/>
        </p:nvPicPr>
        <p:blipFill>
          <a:blip r:embed="rId4"/>
          <a:stretch/>
        </p:blipFill>
        <p:spPr>
          <a:xfrm>
            <a:off x="5867280" y="457200"/>
            <a:ext cx="26146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rds.yahoo.com/_ylt=A0WTefhU1vNMIWkAvuyjzbkF/SIG=12oih7db2/EXP=1291134932/**http%3a/wvlc.uwaterloo.ca/biology447/modules/module4/walk_geology.gif"/>
          <p:cNvPicPr/>
          <p:nvPr/>
        </p:nvPicPr>
        <p:blipFill>
          <a:blip r:embed="rId1"/>
          <a:stretch/>
        </p:blipFill>
        <p:spPr>
          <a:xfrm>
            <a:off x="-1801800" y="-458640"/>
            <a:ext cx="10945800" cy="102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lkerton – Who Messed Up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o was at faul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ustice O’Connor Called for change by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y the Province of Ont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y all Municipalities and Water Utili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y the Supervisors / Operato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and he called for a multi-barrier approach with increased training, double checking and governance with professional and governmental oversight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her Issue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s Sewage in the Ottawa Rive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looded basements in Kanata? Orlea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re people bathing in sewage in Developing Countries? India? Haita – Cholera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s there a lack of Clean water in Canadian Aboriginal reserv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s drinking water safe when it’s from a school water fountai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nicipal Water In Ont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re does it come from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s it treate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s it teste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w much does it cos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s it saf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you drink i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ter Sour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oundwater (Springs, Wells, etc.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rface Water (Rivers, Lakes, etc.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cean Water (Desalination Plant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ain / Snow (Cister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Picture 4" descr="Photo: Improper slab height of a water well could produce inadequate drainage, which could cause contamination of the water supply. Photo credit: Public Health Image Library"/>
          <p:cNvPicPr/>
          <p:nvPr/>
        </p:nvPicPr>
        <p:blipFill>
          <a:blip r:embed="rId6"/>
          <a:stretch/>
        </p:blipFill>
        <p:spPr>
          <a:xfrm>
            <a:off x="6095880" y="1981080"/>
            <a:ext cx="28861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s Drinking Water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reated?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/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sted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vate Wells… no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vate Lakes/ Rivers… n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any Wells/Surface Water… n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nicipal Sources… y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ncial Sources… most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ederal Sources… sometim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80060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litt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litt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depe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big tim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st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metim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eatment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rface waters are cleaned, settled and pollish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lorine is added to municipal wat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zone and UV Rays are  used to neutralize bacteria in some cas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ee Chlorine must still be in municipal syste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2" name="Picture 6" descr="Photo: Water faucet and glass of ice."/>
          <p:cNvPicPr/>
          <p:nvPr/>
        </p:nvPicPr>
        <p:blipFill>
          <a:blip r:embed="rId5"/>
          <a:stretch/>
        </p:blipFill>
        <p:spPr>
          <a:xfrm>
            <a:off x="4875120" y="1905120"/>
            <a:ext cx="365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ving Organism Pollutants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 Drinking Water – Dange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iform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tting Plants / So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ecal Coliform E-Coli – Anim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sidic Protazo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ryptosporidium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iardia Lambl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KA - Beaver Fever / Montezuma’s Revenge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itle 1"/>
          <p:cNvSpPr/>
          <p:nvPr/>
        </p:nvSpPr>
        <p:spPr>
          <a:xfrm>
            <a:off x="53964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ving Organism Pollutants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 Drinking Water – Danger?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Text Placeholder 3"/>
          <p:cNvSpPr/>
          <p:nvPr/>
        </p:nvSpPr>
        <p:spPr>
          <a:xfrm>
            <a:off x="826920" y="204156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iform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tting Plants / So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ecal Coliform E-Coli – Anim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sidic Protazo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ryptosporidium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iardia Lambl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KA - Beaver Fever / Montezuma’s Revenge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Content Placeholder 4"/>
          <p:cNvSpPr/>
          <p:nvPr/>
        </p:nvSpPr>
        <p:spPr>
          <a:xfrm>
            <a:off x="4788000" y="204156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In substantial numbers may cause mild illness, severe illness or deat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Divide and Multiply’ and Make you sick for a few days or a few wee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emical Pollutants –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ich are the Riskiest?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illed Gasol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rbicid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sticid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iso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troge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eenhouse Gas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20:22:48Z</dcterms:created>
  <dc:creator>clyon</dc:creator>
  <dc:description/>
  <dc:language>en-US</dc:language>
  <cp:lastModifiedBy>Customer</cp:lastModifiedBy>
  <dcterms:modified xsi:type="dcterms:W3CDTF">2010-11-29T17:31:02Z</dcterms:modified>
  <cp:revision>13</cp:revision>
  <dc:subject/>
  <dc:title>Water and Wastewater in Ontario  Chris Lyon, P.Eng., M.Eng.  Director Engineering Services Ainley Group, Engineering</dc:title>
</cp:coreProperties>
</file>